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hapter" id="0">
      <p:sldLst>
        <p:sld r:id="rId16"/>
        <p:sld r:id="rId3"/>
        <p:sld r:id="rId15"/>
        <p:sld r:id="rId6"/>
        <p:sld r:id="rId8"/>
        <p:sld r:id="rId7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6"/>
        <p:sld r:id="rId17"/>
      </p:sldLst>
    </p:custShow>
    <p:custShow name="ELI Sect 3" id="2">
      <p:sldLst>
        <p:sld r:id="rId3"/>
      </p:sldLst>
    </p:custShow>
    <p:custShow name="ELI Sect 4" id="3">
      <p:sldLst>
        <p:sld r:id="rId7"/>
      </p:sldLst>
    </p:custShow>
    <p:custShow name="ELI STP" id="4">
      <p:sldLst>
        <p:sld r:id="rId11"/>
        <p:sld r:id="rId13"/>
        <p:sld r:id="rId14"/>
      </p:sldLst>
    </p:custShow>
    <p:custShow name="Transparencies" id="5">
      <p:sldLst>
        <p:sld r:id="rId15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6"/>
        <p:sld r:id="rId17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s of the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28400" y="1498320"/>
            <a:ext cx="8258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cientists Make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a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n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6858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Earth’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a conic proj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1495440" y="2505240"/>
            <a:ext cx="615312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a Ma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provide information through the use of symbo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rection on a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are commonly drawn with north at the top, east at the right, west at the left, and south at the bott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ps use parallels of latitude and meridians of longitude to indicate direction and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ps also include a compass rose, which is a symbol that indicates the cardinal directions (north, east, south, and west), or an arrow that indicates no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a Map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s are commonly used on maps to represent features such as cities, highways, rivers, and other points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s may resemble the features that they represent, or they may be more abst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s are commonly explained in a leg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g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list of map symbols and their mea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ormation on Map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3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a Map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p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lationship between the distance shown on a map and the actual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 scales are commonly expressed as graphic scales, fractional scales, or verbal sc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aphic scale is a printed line that has markings that represent units of measure, such as meters or kilo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ractional scale is a ratio that indicates how distance on Earth relates to distance on the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erbal scale expresses scale in sentence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a Map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isogram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 line on a map that represents a constant or equal value of a given quant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econd part of the word,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gram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can be changed to describe the measurement being graphed. For example, when the line connects points of equal temperature the line is called an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isotherm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 When the line connects points of equal atmospheric pressure, the line is called an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isobar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sograms can be used to plot many types of data, such as atmospheric pressure, temperature, precipitation, gravity, magnetism, density, elevation, chemical composition, and many other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ways that scientists get data to make m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acteristics and uses of three types of map proj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keys, legends, and scales to read m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Scientists Make Map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ost globes are too small to show details of Earth’s surface, such as streams and highways, a great variety of maps have been developed for studying and displaying detailed information about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cience of making map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tograp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cientists who make map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tograph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ographers use data from a variety of sources, such as from field surveys and remote sen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te sens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gathering and analyzing information about an object without physically being in touch with the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p is a flat representation of Earth’s curved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ring a curved surface to a flat map results in a distorted image of the curved surface. An area shown on a map may be distorted in size, shape, distance, o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he years, cartographers have developed several ways to transfer the curved surface of Earth onto flat maps. These method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p proje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p proj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flat map that represents a spherical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ap projection is entirely accurate, but each kind of projection has advantages and disadvan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ylindrical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rapped a cylinder of paper around a lighted globe and traced the outlines of continents, oceans, parallels, and meridians,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ylindrical proj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res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ylindrical projection is accurate near the equator but distorts distances and sizes near th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dvantage to cylindrical projections is that parallels and meridians form a grid, which makes locating positions eas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cylindrical projection, shapes of small areas are usually well pre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a cylindrical proj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1197000" y="2514600"/>
            <a:ext cx="67514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383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zimuthal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projection made by placing a sheet of paper against a globe such that the paper touches the globe at only one point is called an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azimuthal projectio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n an azimuthal projection, little distortion occurs at a the point of contact, but the unequal spacing between parallels causes a distortion in both direction and distance that increases as distance from the point of contact incre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ne advantage of azimuthal projections is that on these maps, great circles appear as straight lines. Thus, azimuthal projections are useful for plotting navigational path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an azimuthal proj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1542960" y="2438280"/>
            <a:ext cx="605952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 Pro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33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ic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rojection made by placing a paper cone over a lighted globe so that the axis of the cone aligns with the axis of the globe is known as a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onic projec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as near the parallel where the cone and the globe are in contact are distorted lea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series of conic projections can be used to increase accuracy by mapping a number of neighboring areas and fitting the adjoining areas together to make a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olyconic projec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 a polyconic projection, the relative sizes and shapes of small areas on the map are nearly the same as those on the glob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09-17T23:33:15Z</dcterms:modified>
  <cp:revision>708</cp:revision>
  <dc:subject/>
  <dc:title>No Slide Title</dc:title>
</cp:coreProperties>
</file>